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56C-CB2F-473D-ABE7-52BA9F15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120-DE5B-43E3-8EB9-2F80F9B3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A2B-BEBC-46A4-9790-557BEB8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197-B1E9-464B-8BCD-B44F310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569-845C-4964-9499-3723891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D0-EE80-479A-984C-6231EE6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F65-F4A2-4728-A6D0-EB438453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F0D-DA20-4FEE-AB2B-4A7FEF5C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0B7-E555-403A-8433-EFE54AE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FB1-9C14-4F85-AF7C-961F4AE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856-25E3-45A1-AE09-7EEF7B4F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D4A-2CEA-4C7D-9C2F-03A6C95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630C-B8DB-444D-8DDB-7497F4867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91080" y="-1371600"/>
            <a:ext cx="1173492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THE ROCKY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2514600"/>
            <a:ext cx="678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:  Angelica and Jo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ok4me2.net/wordpress/wp-content/uploads/image/ok8_31/image/ok9_26/southern-RockyMountains.jpg"/>
          <p:cNvPicPr/>
          <p:nvPr/>
        </p:nvPicPr>
        <p:blipFill>
          <a:blip r:embed="rId1"/>
          <a:stretch/>
        </p:blipFill>
        <p:spPr>
          <a:xfrm>
            <a:off x="2209680" y="3048120"/>
            <a:ext cx="47628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l E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ntain 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B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dge Pole 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nderosa 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ll E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5335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ull Elk is a type of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1T21:36:50Z</dcterms:modified>
  <cp:revision>6</cp:revision>
  <dc:subject/>
  <dc:title>Title</dc:title>
</cp:coreProperties>
</file>